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168-9748-40D1-AF4D-E2603B95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6A1-1CCF-4FE5-AC5E-86231ECA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9EA-6E25-459E-A47B-121AD67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2760"/>
            <a:ext cx="294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D39-6605-4048-86C4-FBE99040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177-BA69-411E-B951-9DC9505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077-DBA7-4B59-9E9B-27F84531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45-43E1-4D7F-9B4B-E7AEC5A7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336-7F43-4807-9887-FCA2F50E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362-9FBB-4BBE-829D-813C2482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B8C-FBC4-41EE-81FF-95E5F43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276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469-E57C-4DD1-BDF3-3409D2F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2760"/>
            <a:ext cx="9144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D66-07D4-4931-A116-D7C24F9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5BCE63A-3A98-43A3-8C90-A8F90BE8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hyperlink" Target="http://hcls.deri.org/coi/dem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nical Observations Interoperability (COI):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ow can Semantic Web Technologies Help?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pul Kashy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vipul.kashyap@cign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HALS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cknowledgments: Helen Chen, Eric P and Holger Stenzhorn for COI Dem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arsa Mirhaji for providing the real world clinical d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Use Case: Patient Screening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685800"/>
            <a:ext cx="7543800" cy="5646600"/>
            <a:chOff x="303120" y="685800"/>
            <a:chExt cx="7543800" cy="5646600"/>
          </a:xfrm>
        </p:grpSpPr>
        <p:sp>
          <p:nvSpPr>
            <p:cNvPr id="159" name=""/>
            <p:cNvSpPr/>
            <p:nvPr/>
          </p:nvSpPr>
          <p:spPr>
            <a:xfrm>
              <a:off x="303120" y="685800"/>
              <a:ext cx="7543800" cy="564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824280" y="1251000"/>
              <a:ext cx="1508040" cy="627120"/>
              <a:chOff x="3824280" y="1251000"/>
              <a:chExt cx="1508040" cy="627120"/>
            </a:xfrm>
          </p:grpSpPr>
          <p:sp>
            <p:nvSpPr>
              <p:cNvPr id="161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24280" y="1251000"/>
                <a:ext cx="1508040" cy="62712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908160" y="1305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9960" y="1413000"/>
              <a:ext cx="351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5080" y="130500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7960" y="1413000"/>
              <a:ext cx="412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3920" y="13050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7520" y="1413000"/>
              <a:ext cx="378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3840" y="1433520"/>
              <a:ext cx="79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ligibility Criteri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5040" y="155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25160" y="15555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5040" y="1681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24080" y="168120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clu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81440" y="2379600"/>
              <a:ext cx="3646440" cy="1138320"/>
              <a:chOff x="2881440" y="2379600"/>
              <a:chExt cx="3646440" cy="11383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881440" y="2379600"/>
                <a:ext cx="3646440" cy="1138320"/>
                <a:chOff x="2881440" y="2379600"/>
                <a:chExt cx="3646440" cy="1138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81440" y="2379600"/>
                  <a:ext cx="3646440" cy="113832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249800" y="2587680"/>
                <a:ext cx="89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EMR DAT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328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97880" y="2886120"/>
                <a:ext cx="37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6120" y="2827440"/>
                <a:ext cx="1068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38920" y="288612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384720" y="3141720"/>
                <a:ext cx="1193760" cy="271440"/>
                <a:chOff x="3384720" y="3141720"/>
                <a:chExt cx="1193760" cy="271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84720" y="3141720"/>
                  <a:ext cx="1193760" cy="271440"/>
                </a:xfrm>
                <a:prstGeom prst="rect">
                  <a:avLst/>
                </a:prstGeom>
                <a:noFill/>
                <a:ln cap="rnd"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3466800" y="3200400"/>
                <a:ext cx="72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agno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95720" y="2513160"/>
                <a:ext cx="87948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03760" y="3141720"/>
                <a:ext cx="132084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7640" y="3200400"/>
                <a:ext cx="985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mograp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6520" y="2827440"/>
                <a:ext cx="252360" cy="34740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57960" y="2513160"/>
                <a:ext cx="880920" cy="27288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06720" y="2827440"/>
                <a:ext cx="879480" cy="27144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870120" y="488952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0" y="178"/>
                  </a:moveTo>
                  <a:lnTo>
                    <a:pt x="49" y="178"/>
                  </a:lnTo>
                  <a:lnTo>
                    <a:pt x="49" y="0"/>
                  </a:lnTo>
                  <a:lnTo>
                    <a:pt x="148" y="0"/>
                  </a:lnTo>
                  <a:lnTo>
                    <a:pt x="148" y="178"/>
                  </a:lnTo>
                  <a:lnTo>
                    <a:pt x="198" y="178"/>
                  </a:lnTo>
                  <a:lnTo>
                    <a:pt x="99" y="237"/>
                  </a:lnTo>
                  <a:lnTo>
                    <a:pt x="0" y="17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503440" y="4137120"/>
              <a:ext cx="5154840" cy="1952640"/>
              <a:chOff x="2503440" y="4137120"/>
              <a:chExt cx="5154840" cy="1952640"/>
            </a:xfrm>
          </p:grpSpPr>
          <p:sp>
            <p:nvSpPr>
              <p:cNvPr id="195" name=""/>
              <p:cNvSpPr/>
              <p:nvPr/>
            </p:nvSpPr>
            <p:spPr>
              <a:xfrm>
                <a:off x="7421400" y="55594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6200" y="556092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423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10760" y="556092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63400" y="556092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63400" y="568656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71400" y="556092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3440" y="551484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83360" y="556092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3333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14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7692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4344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148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63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7176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03440" y="5840280"/>
                <a:ext cx="792360" cy="249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81200" y="58863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584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584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7692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7476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7692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7692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7692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21400" y="52322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21400" y="49068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21400" y="41814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42720" y="52354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10760" y="523548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63400" y="5235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63400" y="5361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71760" y="5235480"/>
                <a:ext cx="159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3440" y="518940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83360" y="523548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222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42360" y="4911840"/>
                <a:ext cx="229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43440" y="4183200"/>
                <a:ext cx="62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Criteria #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4128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434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434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434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10760" y="4911840"/>
                <a:ext cx="25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s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3400" y="491184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/8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63400" y="5037120"/>
                <a:ext cx="17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71400" y="4911840"/>
                <a:ext cx="17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03440" y="4863960"/>
                <a:ext cx="792360" cy="325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83360" y="4911840"/>
                <a:ext cx="39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0111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11840" y="418320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#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09320" y="43336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ass/Fail/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11840" y="4459320"/>
                <a:ext cx="55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earche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11840" y="4584600"/>
                <a:ext cx="43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eed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11840" y="4710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valuat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63400" y="4183200"/>
                <a:ext cx="44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# Criteria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2680" y="430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t / Tot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63040" y="4433760"/>
                <a:ext cx="46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iteria i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63760" y="45594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70680" y="4183200"/>
                <a:ext cx="50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otentiall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71040" y="4308480"/>
                <a:ext cx="50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igible for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71400" y="443376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03440" y="4137120"/>
                <a:ext cx="792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80480" y="4183200"/>
                <a:ext cx="592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tient MR #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03440" y="413712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03440" y="486396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03440" y="518940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3440" y="6089760"/>
                <a:ext cx="5154840" cy="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0344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9580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92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340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6748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58280" y="4137120"/>
                <a:ext cx="0" cy="1952640"/>
              </a:xfrm>
              <a:prstGeom prst="line">
                <a:avLst/>
              </a:prstGeom>
              <a:ln cap="sq"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0096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3440" y="551484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3640" y="4137120"/>
                <a:ext cx="0" cy="1952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03440" y="5840280"/>
                <a:ext cx="515484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09480" y="928800"/>
              <a:ext cx="2027520" cy="633240"/>
            </a:xfrm>
            <a:custGeom>
              <a:avLst/>
              <a:gdLst/>
              <a:ahLst/>
              <a:rect l="l" t="t" r="r" b="b"/>
              <a:pathLst>
                <a:path w="1277" h="399">
                  <a:moveTo>
                    <a:pt x="1272" y="10"/>
                  </a:moveTo>
                  <a:lnTo>
                    <a:pt x="1193" y="10"/>
                  </a:lnTo>
                  <a:lnTo>
                    <a:pt x="1193" y="0"/>
                  </a:lnTo>
                  <a:lnTo>
                    <a:pt x="1272" y="0"/>
                  </a:lnTo>
                  <a:lnTo>
                    <a:pt x="1272" y="10"/>
                  </a:lnTo>
                  <a:close/>
                  <a:moveTo>
                    <a:pt x="1164" y="10"/>
                  </a:moveTo>
                  <a:lnTo>
                    <a:pt x="1084" y="10"/>
                  </a:lnTo>
                  <a:lnTo>
                    <a:pt x="1084" y="0"/>
                  </a:lnTo>
                  <a:lnTo>
                    <a:pt x="1164" y="0"/>
                  </a:lnTo>
                  <a:lnTo>
                    <a:pt x="1164" y="10"/>
                  </a:lnTo>
                  <a:close/>
                  <a:moveTo>
                    <a:pt x="1055" y="10"/>
                  </a:moveTo>
                  <a:lnTo>
                    <a:pt x="975" y="10"/>
                  </a:lnTo>
                  <a:lnTo>
                    <a:pt x="975" y="0"/>
                  </a:lnTo>
                  <a:lnTo>
                    <a:pt x="1055" y="0"/>
                  </a:lnTo>
                  <a:lnTo>
                    <a:pt x="1055" y="10"/>
                  </a:lnTo>
                  <a:close/>
                  <a:moveTo>
                    <a:pt x="946" y="10"/>
                  </a:moveTo>
                  <a:lnTo>
                    <a:pt x="867" y="10"/>
                  </a:lnTo>
                  <a:lnTo>
                    <a:pt x="867" y="0"/>
                  </a:lnTo>
                  <a:lnTo>
                    <a:pt x="946" y="0"/>
                  </a:lnTo>
                  <a:lnTo>
                    <a:pt x="946" y="10"/>
                  </a:lnTo>
                  <a:close/>
                  <a:moveTo>
                    <a:pt x="837" y="10"/>
                  </a:moveTo>
                  <a:lnTo>
                    <a:pt x="758" y="10"/>
                  </a:lnTo>
                  <a:lnTo>
                    <a:pt x="758" y="0"/>
                  </a:lnTo>
                  <a:lnTo>
                    <a:pt x="837" y="0"/>
                  </a:lnTo>
                  <a:lnTo>
                    <a:pt x="837" y="10"/>
                  </a:lnTo>
                  <a:close/>
                  <a:moveTo>
                    <a:pt x="728" y="10"/>
                  </a:moveTo>
                  <a:lnTo>
                    <a:pt x="649" y="10"/>
                  </a:lnTo>
                  <a:lnTo>
                    <a:pt x="649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40" y="10"/>
                  </a:lnTo>
                  <a:lnTo>
                    <a:pt x="540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5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4"/>
                  </a:moveTo>
                  <a:lnTo>
                    <a:pt x="10" y="233"/>
                  </a:lnTo>
                  <a:lnTo>
                    <a:pt x="0" y="233"/>
                  </a:lnTo>
                  <a:lnTo>
                    <a:pt x="0" y="154"/>
                  </a:lnTo>
                  <a:lnTo>
                    <a:pt x="10" y="154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8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8" y="399"/>
                  </a:lnTo>
                  <a:lnTo>
                    <a:pt x="418" y="389"/>
                  </a:lnTo>
                  <a:close/>
                  <a:moveTo>
                    <a:pt x="527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7" y="399"/>
                  </a:lnTo>
                  <a:lnTo>
                    <a:pt x="527" y="389"/>
                  </a:lnTo>
                  <a:close/>
                  <a:moveTo>
                    <a:pt x="636" y="389"/>
                  </a:moveTo>
                  <a:lnTo>
                    <a:pt x="715" y="389"/>
                  </a:lnTo>
                  <a:lnTo>
                    <a:pt x="715" y="399"/>
                  </a:lnTo>
                  <a:lnTo>
                    <a:pt x="636" y="399"/>
                  </a:lnTo>
                  <a:lnTo>
                    <a:pt x="636" y="389"/>
                  </a:lnTo>
                  <a:close/>
                  <a:moveTo>
                    <a:pt x="744" y="389"/>
                  </a:moveTo>
                  <a:lnTo>
                    <a:pt x="824" y="389"/>
                  </a:lnTo>
                  <a:lnTo>
                    <a:pt x="824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53" y="389"/>
                  </a:moveTo>
                  <a:lnTo>
                    <a:pt x="933" y="389"/>
                  </a:lnTo>
                  <a:lnTo>
                    <a:pt x="933" y="399"/>
                  </a:lnTo>
                  <a:lnTo>
                    <a:pt x="853" y="399"/>
                  </a:lnTo>
                  <a:lnTo>
                    <a:pt x="853" y="389"/>
                  </a:lnTo>
                  <a:close/>
                  <a:moveTo>
                    <a:pt x="962" y="389"/>
                  </a:moveTo>
                  <a:lnTo>
                    <a:pt x="1041" y="389"/>
                  </a:lnTo>
                  <a:lnTo>
                    <a:pt x="1041" y="399"/>
                  </a:lnTo>
                  <a:lnTo>
                    <a:pt x="962" y="399"/>
                  </a:lnTo>
                  <a:lnTo>
                    <a:pt x="962" y="389"/>
                  </a:lnTo>
                  <a:close/>
                  <a:moveTo>
                    <a:pt x="1071" y="389"/>
                  </a:moveTo>
                  <a:lnTo>
                    <a:pt x="1150" y="389"/>
                  </a:lnTo>
                  <a:lnTo>
                    <a:pt x="1150" y="399"/>
                  </a:lnTo>
                  <a:lnTo>
                    <a:pt x="1071" y="399"/>
                  </a:lnTo>
                  <a:lnTo>
                    <a:pt x="1071" y="389"/>
                  </a:lnTo>
                  <a:close/>
                  <a:moveTo>
                    <a:pt x="1180" y="389"/>
                  </a:moveTo>
                  <a:lnTo>
                    <a:pt x="1259" y="389"/>
                  </a:lnTo>
                  <a:lnTo>
                    <a:pt x="1259" y="399"/>
                  </a:lnTo>
                  <a:lnTo>
                    <a:pt x="1180" y="399"/>
                  </a:lnTo>
                  <a:lnTo>
                    <a:pt x="1180" y="389"/>
                  </a:lnTo>
                  <a:close/>
                  <a:moveTo>
                    <a:pt x="1267" y="378"/>
                  </a:moveTo>
                  <a:lnTo>
                    <a:pt x="1267" y="298"/>
                  </a:lnTo>
                  <a:lnTo>
                    <a:pt x="1277" y="298"/>
                  </a:lnTo>
                  <a:lnTo>
                    <a:pt x="1277" y="378"/>
                  </a:lnTo>
                  <a:lnTo>
                    <a:pt x="1267" y="378"/>
                  </a:lnTo>
                  <a:close/>
                  <a:moveTo>
                    <a:pt x="1267" y="269"/>
                  </a:moveTo>
                  <a:lnTo>
                    <a:pt x="1267" y="190"/>
                  </a:lnTo>
                  <a:lnTo>
                    <a:pt x="1277" y="190"/>
                  </a:lnTo>
                  <a:lnTo>
                    <a:pt x="1277" y="269"/>
                  </a:lnTo>
                  <a:lnTo>
                    <a:pt x="1267" y="269"/>
                  </a:lnTo>
                  <a:close/>
                  <a:moveTo>
                    <a:pt x="1267" y="160"/>
                  </a:moveTo>
                  <a:lnTo>
                    <a:pt x="1267" y="81"/>
                  </a:lnTo>
                  <a:lnTo>
                    <a:pt x="1277" y="81"/>
                  </a:lnTo>
                  <a:lnTo>
                    <a:pt x="1277" y="160"/>
                  </a:lnTo>
                  <a:lnTo>
                    <a:pt x="1267" y="160"/>
                  </a:lnTo>
                  <a:close/>
                  <a:moveTo>
                    <a:pt x="1267" y="51"/>
                  </a:moveTo>
                  <a:lnTo>
                    <a:pt x="1267" y="5"/>
                  </a:lnTo>
                  <a:lnTo>
                    <a:pt x="1277" y="5"/>
                  </a:lnTo>
                  <a:lnTo>
                    <a:pt x="1277" y="51"/>
                  </a:lnTo>
                  <a:lnTo>
                    <a:pt x="12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6240" y="99360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5880" y="11700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protocol for pati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8760" y="13446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4040" y="1407960"/>
              <a:ext cx="1200240" cy="61920"/>
            </a:xfrm>
            <a:custGeom>
              <a:avLst/>
              <a:gdLst/>
              <a:ahLst/>
              <a:rect l="l" t="t" r="r" b="b"/>
              <a:pathLst>
                <a:path w="7633" h="400">
                  <a:moveTo>
                    <a:pt x="33" y="167"/>
                  </a:moveTo>
                  <a:lnTo>
                    <a:pt x="500" y="167"/>
                  </a:lnTo>
                  <a:cubicBezTo>
                    <a:pt x="519" y="167"/>
                    <a:pt x="533" y="182"/>
                    <a:pt x="533" y="200"/>
                  </a:cubicBezTo>
                  <a:cubicBezTo>
                    <a:pt x="533" y="219"/>
                    <a:pt x="519" y="234"/>
                    <a:pt x="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767" y="167"/>
                  </a:moveTo>
                  <a:lnTo>
                    <a:pt x="1233" y="167"/>
                  </a:lnTo>
                  <a:cubicBezTo>
                    <a:pt x="1252" y="167"/>
                    <a:pt x="1267" y="182"/>
                    <a:pt x="1267" y="200"/>
                  </a:cubicBezTo>
                  <a:cubicBezTo>
                    <a:pt x="1267" y="219"/>
                    <a:pt x="1252" y="234"/>
                    <a:pt x="1233" y="234"/>
                  </a:cubicBezTo>
                  <a:lnTo>
                    <a:pt x="767" y="234"/>
                  </a:lnTo>
                  <a:cubicBezTo>
                    <a:pt x="748" y="234"/>
                    <a:pt x="733" y="219"/>
                    <a:pt x="733" y="200"/>
                  </a:cubicBezTo>
                  <a:cubicBezTo>
                    <a:pt x="733" y="182"/>
                    <a:pt x="748" y="167"/>
                    <a:pt x="767" y="167"/>
                  </a:cubicBezTo>
                  <a:close/>
                  <a:moveTo>
                    <a:pt x="1500" y="167"/>
                  </a:moveTo>
                  <a:lnTo>
                    <a:pt x="1967" y="167"/>
                  </a:lnTo>
                  <a:cubicBezTo>
                    <a:pt x="1985" y="167"/>
                    <a:pt x="2000" y="182"/>
                    <a:pt x="2000" y="200"/>
                  </a:cubicBezTo>
                  <a:cubicBezTo>
                    <a:pt x="2000" y="219"/>
                    <a:pt x="1985" y="234"/>
                    <a:pt x="1967" y="234"/>
                  </a:cubicBezTo>
                  <a:lnTo>
                    <a:pt x="1500" y="234"/>
                  </a:lnTo>
                  <a:cubicBezTo>
                    <a:pt x="1482" y="234"/>
                    <a:pt x="1467" y="219"/>
                    <a:pt x="1467" y="200"/>
                  </a:cubicBezTo>
                  <a:cubicBezTo>
                    <a:pt x="1467" y="182"/>
                    <a:pt x="1482" y="167"/>
                    <a:pt x="1500" y="167"/>
                  </a:cubicBezTo>
                  <a:close/>
                  <a:moveTo>
                    <a:pt x="2233" y="167"/>
                  </a:moveTo>
                  <a:lnTo>
                    <a:pt x="2700" y="167"/>
                  </a:lnTo>
                  <a:cubicBezTo>
                    <a:pt x="2719" y="167"/>
                    <a:pt x="2733" y="182"/>
                    <a:pt x="2733" y="200"/>
                  </a:cubicBezTo>
                  <a:cubicBezTo>
                    <a:pt x="2733" y="219"/>
                    <a:pt x="2719" y="234"/>
                    <a:pt x="2700" y="234"/>
                  </a:cubicBezTo>
                  <a:lnTo>
                    <a:pt x="2233" y="234"/>
                  </a:lnTo>
                  <a:cubicBezTo>
                    <a:pt x="2215" y="234"/>
                    <a:pt x="2200" y="219"/>
                    <a:pt x="2200" y="200"/>
                  </a:cubicBezTo>
                  <a:cubicBezTo>
                    <a:pt x="2200" y="182"/>
                    <a:pt x="2215" y="167"/>
                    <a:pt x="2233" y="167"/>
                  </a:cubicBezTo>
                  <a:close/>
                  <a:moveTo>
                    <a:pt x="2967" y="167"/>
                  </a:moveTo>
                  <a:lnTo>
                    <a:pt x="3433" y="167"/>
                  </a:lnTo>
                  <a:cubicBezTo>
                    <a:pt x="3452" y="167"/>
                    <a:pt x="3467" y="182"/>
                    <a:pt x="3467" y="200"/>
                  </a:cubicBezTo>
                  <a:cubicBezTo>
                    <a:pt x="3467" y="219"/>
                    <a:pt x="3452" y="234"/>
                    <a:pt x="3433" y="234"/>
                  </a:cubicBezTo>
                  <a:lnTo>
                    <a:pt x="2967" y="234"/>
                  </a:lnTo>
                  <a:cubicBezTo>
                    <a:pt x="2948" y="234"/>
                    <a:pt x="2933" y="219"/>
                    <a:pt x="2933" y="200"/>
                  </a:cubicBezTo>
                  <a:cubicBezTo>
                    <a:pt x="2933" y="182"/>
                    <a:pt x="2948" y="167"/>
                    <a:pt x="2967" y="167"/>
                  </a:cubicBezTo>
                  <a:close/>
                  <a:moveTo>
                    <a:pt x="3700" y="167"/>
                  </a:moveTo>
                  <a:lnTo>
                    <a:pt x="4167" y="167"/>
                  </a:lnTo>
                  <a:cubicBezTo>
                    <a:pt x="4185" y="167"/>
                    <a:pt x="4200" y="182"/>
                    <a:pt x="4200" y="200"/>
                  </a:cubicBezTo>
                  <a:cubicBezTo>
                    <a:pt x="4200" y="219"/>
                    <a:pt x="4185" y="234"/>
                    <a:pt x="4167" y="234"/>
                  </a:cubicBezTo>
                  <a:lnTo>
                    <a:pt x="3700" y="234"/>
                  </a:lnTo>
                  <a:cubicBezTo>
                    <a:pt x="3682" y="234"/>
                    <a:pt x="3667" y="219"/>
                    <a:pt x="3667" y="200"/>
                  </a:cubicBezTo>
                  <a:cubicBezTo>
                    <a:pt x="3667" y="182"/>
                    <a:pt x="3682" y="167"/>
                    <a:pt x="3700" y="167"/>
                  </a:cubicBezTo>
                  <a:close/>
                  <a:moveTo>
                    <a:pt x="4433" y="167"/>
                  </a:moveTo>
                  <a:lnTo>
                    <a:pt x="4900" y="167"/>
                  </a:lnTo>
                  <a:cubicBezTo>
                    <a:pt x="4919" y="167"/>
                    <a:pt x="4933" y="182"/>
                    <a:pt x="4933" y="200"/>
                  </a:cubicBezTo>
                  <a:cubicBezTo>
                    <a:pt x="4933" y="219"/>
                    <a:pt x="4919" y="234"/>
                    <a:pt x="4900" y="234"/>
                  </a:cubicBezTo>
                  <a:lnTo>
                    <a:pt x="4433" y="234"/>
                  </a:lnTo>
                  <a:cubicBezTo>
                    <a:pt x="4415" y="234"/>
                    <a:pt x="4400" y="219"/>
                    <a:pt x="4400" y="200"/>
                  </a:cubicBezTo>
                  <a:cubicBezTo>
                    <a:pt x="4400" y="182"/>
                    <a:pt x="4415" y="167"/>
                    <a:pt x="4433" y="167"/>
                  </a:cubicBezTo>
                  <a:close/>
                  <a:moveTo>
                    <a:pt x="5167" y="167"/>
                  </a:moveTo>
                  <a:lnTo>
                    <a:pt x="5633" y="167"/>
                  </a:lnTo>
                  <a:cubicBezTo>
                    <a:pt x="5652" y="167"/>
                    <a:pt x="5667" y="182"/>
                    <a:pt x="5667" y="200"/>
                  </a:cubicBezTo>
                  <a:cubicBezTo>
                    <a:pt x="5667" y="219"/>
                    <a:pt x="5652" y="234"/>
                    <a:pt x="5633" y="234"/>
                  </a:cubicBezTo>
                  <a:lnTo>
                    <a:pt x="5167" y="234"/>
                  </a:lnTo>
                  <a:cubicBezTo>
                    <a:pt x="5148" y="234"/>
                    <a:pt x="5133" y="219"/>
                    <a:pt x="5133" y="200"/>
                  </a:cubicBezTo>
                  <a:cubicBezTo>
                    <a:pt x="5133" y="182"/>
                    <a:pt x="5148" y="167"/>
                    <a:pt x="5167" y="167"/>
                  </a:cubicBezTo>
                  <a:close/>
                  <a:moveTo>
                    <a:pt x="5900" y="167"/>
                  </a:moveTo>
                  <a:lnTo>
                    <a:pt x="6367" y="167"/>
                  </a:lnTo>
                  <a:cubicBezTo>
                    <a:pt x="6385" y="167"/>
                    <a:pt x="6400" y="182"/>
                    <a:pt x="6400" y="200"/>
                  </a:cubicBezTo>
                  <a:cubicBezTo>
                    <a:pt x="6400" y="219"/>
                    <a:pt x="6385" y="234"/>
                    <a:pt x="6367" y="234"/>
                  </a:cubicBezTo>
                  <a:lnTo>
                    <a:pt x="5900" y="234"/>
                  </a:lnTo>
                  <a:cubicBezTo>
                    <a:pt x="5882" y="234"/>
                    <a:pt x="5867" y="219"/>
                    <a:pt x="5867" y="200"/>
                  </a:cubicBezTo>
                  <a:cubicBezTo>
                    <a:pt x="5867" y="182"/>
                    <a:pt x="5882" y="167"/>
                    <a:pt x="5900" y="167"/>
                  </a:cubicBezTo>
                  <a:close/>
                  <a:moveTo>
                    <a:pt x="6633" y="167"/>
                  </a:moveTo>
                  <a:lnTo>
                    <a:pt x="7100" y="167"/>
                  </a:lnTo>
                  <a:cubicBezTo>
                    <a:pt x="7119" y="167"/>
                    <a:pt x="7133" y="182"/>
                    <a:pt x="7133" y="200"/>
                  </a:cubicBezTo>
                  <a:cubicBezTo>
                    <a:pt x="7133" y="219"/>
                    <a:pt x="7119" y="234"/>
                    <a:pt x="7100" y="234"/>
                  </a:cubicBezTo>
                  <a:lnTo>
                    <a:pt x="6633" y="234"/>
                  </a:lnTo>
                  <a:cubicBezTo>
                    <a:pt x="6615" y="234"/>
                    <a:pt x="6600" y="219"/>
                    <a:pt x="6600" y="200"/>
                  </a:cubicBezTo>
                  <a:cubicBezTo>
                    <a:pt x="6600" y="182"/>
                    <a:pt x="6615" y="167"/>
                    <a:pt x="6633" y="167"/>
                  </a:cubicBezTo>
                  <a:close/>
                  <a:moveTo>
                    <a:pt x="7233" y="0"/>
                  </a:moveTo>
                  <a:lnTo>
                    <a:pt x="7633" y="200"/>
                  </a:lnTo>
                  <a:lnTo>
                    <a:pt x="7233" y="400"/>
                  </a:lnTo>
                  <a:lnTo>
                    <a:pt x="72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3200" y="3062160"/>
              <a:ext cx="1334880" cy="1684440"/>
            </a:xfrm>
            <a:custGeom>
              <a:avLst/>
              <a:gdLst/>
              <a:ahLst/>
              <a:rect l="l" t="t" r="r" b="b"/>
              <a:pathLst>
                <a:path w="841" h="1061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450"/>
                  </a:lnTo>
                  <a:lnTo>
                    <a:pt x="0" y="450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10" y="479"/>
                  </a:moveTo>
                  <a:lnTo>
                    <a:pt x="10" y="558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10" y="479"/>
                  </a:lnTo>
                  <a:close/>
                  <a:moveTo>
                    <a:pt x="10" y="588"/>
                  </a:moveTo>
                  <a:lnTo>
                    <a:pt x="10" y="667"/>
                  </a:lnTo>
                  <a:lnTo>
                    <a:pt x="0" y="667"/>
                  </a:lnTo>
                  <a:lnTo>
                    <a:pt x="0" y="588"/>
                  </a:lnTo>
                  <a:lnTo>
                    <a:pt x="10" y="588"/>
                  </a:lnTo>
                  <a:close/>
                  <a:moveTo>
                    <a:pt x="10" y="697"/>
                  </a:moveTo>
                  <a:lnTo>
                    <a:pt x="10" y="776"/>
                  </a:lnTo>
                  <a:lnTo>
                    <a:pt x="0" y="776"/>
                  </a:lnTo>
                  <a:lnTo>
                    <a:pt x="0" y="697"/>
                  </a:lnTo>
                  <a:lnTo>
                    <a:pt x="10" y="697"/>
                  </a:lnTo>
                  <a:close/>
                  <a:moveTo>
                    <a:pt x="10" y="805"/>
                  </a:moveTo>
                  <a:lnTo>
                    <a:pt x="10" y="885"/>
                  </a:lnTo>
                  <a:lnTo>
                    <a:pt x="0" y="885"/>
                  </a:lnTo>
                  <a:lnTo>
                    <a:pt x="0" y="805"/>
                  </a:lnTo>
                  <a:lnTo>
                    <a:pt x="10" y="805"/>
                  </a:lnTo>
                  <a:close/>
                  <a:moveTo>
                    <a:pt x="10" y="914"/>
                  </a:moveTo>
                  <a:lnTo>
                    <a:pt x="10" y="993"/>
                  </a:lnTo>
                  <a:lnTo>
                    <a:pt x="0" y="993"/>
                  </a:lnTo>
                  <a:lnTo>
                    <a:pt x="0" y="914"/>
                  </a:lnTo>
                  <a:lnTo>
                    <a:pt x="10" y="914"/>
                  </a:lnTo>
                  <a:close/>
                  <a:moveTo>
                    <a:pt x="10" y="1023"/>
                  </a:moveTo>
                  <a:lnTo>
                    <a:pt x="10" y="1056"/>
                  </a:lnTo>
                  <a:lnTo>
                    <a:pt x="5" y="1051"/>
                  </a:lnTo>
                  <a:lnTo>
                    <a:pt x="51" y="1051"/>
                  </a:lnTo>
                  <a:lnTo>
                    <a:pt x="51" y="1061"/>
                  </a:lnTo>
                  <a:lnTo>
                    <a:pt x="0" y="1061"/>
                  </a:lnTo>
                  <a:lnTo>
                    <a:pt x="0" y="1023"/>
                  </a:lnTo>
                  <a:lnTo>
                    <a:pt x="10" y="1023"/>
                  </a:lnTo>
                  <a:close/>
                  <a:moveTo>
                    <a:pt x="81" y="1051"/>
                  </a:moveTo>
                  <a:lnTo>
                    <a:pt x="160" y="1051"/>
                  </a:lnTo>
                  <a:lnTo>
                    <a:pt x="160" y="1061"/>
                  </a:lnTo>
                  <a:lnTo>
                    <a:pt x="81" y="1061"/>
                  </a:lnTo>
                  <a:lnTo>
                    <a:pt x="81" y="1051"/>
                  </a:lnTo>
                  <a:close/>
                  <a:moveTo>
                    <a:pt x="190" y="1051"/>
                  </a:moveTo>
                  <a:lnTo>
                    <a:pt x="269" y="1051"/>
                  </a:lnTo>
                  <a:lnTo>
                    <a:pt x="269" y="1061"/>
                  </a:lnTo>
                  <a:lnTo>
                    <a:pt x="190" y="1061"/>
                  </a:lnTo>
                  <a:lnTo>
                    <a:pt x="190" y="1051"/>
                  </a:lnTo>
                  <a:close/>
                  <a:moveTo>
                    <a:pt x="299" y="1051"/>
                  </a:moveTo>
                  <a:lnTo>
                    <a:pt x="378" y="1051"/>
                  </a:lnTo>
                  <a:lnTo>
                    <a:pt x="378" y="1061"/>
                  </a:lnTo>
                  <a:lnTo>
                    <a:pt x="299" y="1061"/>
                  </a:lnTo>
                  <a:lnTo>
                    <a:pt x="299" y="1051"/>
                  </a:lnTo>
                  <a:close/>
                  <a:moveTo>
                    <a:pt x="407" y="1051"/>
                  </a:moveTo>
                  <a:lnTo>
                    <a:pt x="487" y="1051"/>
                  </a:lnTo>
                  <a:lnTo>
                    <a:pt x="487" y="1061"/>
                  </a:lnTo>
                  <a:lnTo>
                    <a:pt x="407" y="1061"/>
                  </a:lnTo>
                  <a:lnTo>
                    <a:pt x="407" y="1051"/>
                  </a:lnTo>
                  <a:close/>
                  <a:moveTo>
                    <a:pt x="516" y="1051"/>
                  </a:moveTo>
                  <a:lnTo>
                    <a:pt x="596" y="1051"/>
                  </a:lnTo>
                  <a:lnTo>
                    <a:pt x="596" y="1061"/>
                  </a:lnTo>
                  <a:lnTo>
                    <a:pt x="516" y="1061"/>
                  </a:lnTo>
                  <a:lnTo>
                    <a:pt x="516" y="1051"/>
                  </a:lnTo>
                  <a:close/>
                  <a:moveTo>
                    <a:pt x="625" y="1051"/>
                  </a:moveTo>
                  <a:lnTo>
                    <a:pt x="704" y="1051"/>
                  </a:lnTo>
                  <a:lnTo>
                    <a:pt x="704" y="1061"/>
                  </a:lnTo>
                  <a:lnTo>
                    <a:pt x="625" y="1061"/>
                  </a:lnTo>
                  <a:lnTo>
                    <a:pt x="625" y="1051"/>
                  </a:lnTo>
                  <a:close/>
                  <a:moveTo>
                    <a:pt x="734" y="1051"/>
                  </a:moveTo>
                  <a:lnTo>
                    <a:pt x="813" y="1051"/>
                  </a:lnTo>
                  <a:lnTo>
                    <a:pt x="813" y="1061"/>
                  </a:lnTo>
                  <a:lnTo>
                    <a:pt x="734" y="1061"/>
                  </a:lnTo>
                  <a:lnTo>
                    <a:pt x="734" y="1051"/>
                  </a:lnTo>
                  <a:close/>
                  <a:moveTo>
                    <a:pt x="831" y="1049"/>
                  </a:moveTo>
                  <a:lnTo>
                    <a:pt x="831" y="970"/>
                  </a:lnTo>
                  <a:lnTo>
                    <a:pt x="841" y="970"/>
                  </a:lnTo>
                  <a:lnTo>
                    <a:pt x="841" y="1049"/>
                  </a:lnTo>
                  <a:lnTo>
                    <a:pt x="831" y="1049"/>
                  </a:lnTo>
                  <a:close/>
                  <a:moveTo>
                    <a:pt x="831" y="941"/>
                  </a:moveTo>
                  <a:lnTo>
                    <a:pt x="831" y="862"/>
                  </a:lnTo>
                  <a:lnTo>
                    <a:pt x="841" y="862"/>
                  </a:lnTo>
                  <a:lnTo>
                    <a:pt x="841" y="941"/>
                  </a:lnTo>
                  <a:lnTo>
                    <a:pt x="831" y="941"/>
                  </a:lnTo>
                  <a:close/>
                  <a:moveTo>
                    <a:pt x="831" y="832"/>
                  </a:moveTo>
                  <a:lnTo>
                    <a:pt x="831" y="753"/>
                  </a:lnTo>
                  <a:lnTo>
                    <a:pt x="841" y="753"/>
                  </a:lnTo>
                  <a:lnTo>
                    <a:pt x="841" y="832"/>
                  </a:lnTo>
                  <a:lnTo>
                    <a:pt x="831" y="832"/>
                  </a:lnTo>
                  <a:close/>
                  <a:moveTo>
                    <a:pt x="831" y="723"/>
                  </a:moveTo>
                  <a:lnTo>
                    <a:pt x="831" y="644"/>
                  </a:lnTo>
                  <a:lnTo>
                    <a:pt x="841" y="644"/>
                  </a:lnTo>
                  <a:lnTo>
                    <a:pt x="841" y="723"/>
                  </a:lnTo>
                  <a:lnTo>
                    <a:pt x="831" y="723"/>
                  </a:lnTo>
                  <a:close/>
                  <a:moveTo>
                    <a:pt x="831" y="614"/>
                  </a:moveTo>
                  <a:lnTo>
                    <a:pt x="831" y="535"/>
                  </a:lnTo>
                  <a:lnTo>
                    <a:pt x="841" y="535"/>
                  </a:lnTo>
                  <a:lnTo>
                    <a:pt x="841" y="614"/>
                  </a:lnTo>
                  <a:lnTo>
                    <a:pt x="831" y="614"/>
                  </a:lnTo>
                  <a:close/>
                  <a:moveTo>
                    <a:pt x="831" y="506"/>
                  </a:moveTo>
                  <a:lnTo>
                    <a:pt x="831" y="427"/>
                  </a:lnTo>
                  <a:lnTo>
                    <a:pt x="841" y="427"/>
                  </a:lnTo>
                  <a:lnTo>
                    <a:pt x="841" y="506"/>
                  </a:lnTo>
                  <a:lnTo>
                    <a:pt x="831" y="506"/>
                  </a:lnTo>
                  <a:close/>
                  <a:moveTo>
                    <a:pt x="831" y="397"/>
                  </a:moveTo>
                  <a:lnTo>
                    <a:pt x="831" y="318"/>
                  </a:lnTo>
                  <a:lnTo>
                    <a:pt x="841" y="318"/>
                  </a:lnTo>
                  <a:lnTo>
                    <a:pt x="841" y="397"/>
                  </a:lnTo>
                  <a:lnTo>
                    <a:pt x="831" y="397"/>
                  </a:lnTo>
                  <a:close/>
                  <a:moveTo>
                    <a:pt x="831" y="288"/>
                  </a:moveTo>
                  <a:lnTo>
                    <a:pt x="831" y="209"/>
                  </a:lnTo>
                  <a:lnTo>
                    <a:pt x="841" y="209"/>
                  </a:lnTo>
                  <a:lnTo>
                    <a:pt x="841" y="288"/>
                  </a:lnTo>
                  <a:lnTo>
                    <a:pt x="831" y="288"/>
                  </a:lnTo>
                  <a:close/>
                  <a:moveTo>
                    <a:pt x="831" y="180"/>
                  </a:moveTo>
                  <a:lnTo>
                    <a:pt x="831" y="101"/>
                  </a:lnTo>
                  <a:lnTo>
                    <a:pt x="841" y="101"/>
                  </a:lnTo>
                  <a:lnTo>
                    <a:pt x="841" y="180"/>
                  </a:lnTo>
                  <a:lnTo>
                    <a:pt x="831" y="180"/>
                  </a:lnTo>
                  <a:close/>
                  <a:moveTo>
                    <a:pt x="831" y="7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71"/>
                  </a:lnTo>
                  <a:lnTo>
                    <a:pt x="831" y="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480" y="312732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760" y="330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560" y="3478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ews list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1040" y="3651120"/>
              <a:ext cx="87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ients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480" y="382752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cts whi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9240" y="400356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es to approa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417816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person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600" y="435456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3560" y="45273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1873080"/>
              <a:ext cx="63720" cy="444600"/>
            </a:xfrm>
            <a:custGeom>
              <a:avLst/>
              <a:gdLst/>
              <a:ahLst/>
              <a:rect l="l" t="t" r="r" b="b"/>
              <a:pathLst>
                <a:path w="400" h="2833">
                  <a:moveTo>
                    <a:pt x="234" y="33"/>
                  </a:moveTo>
                  <a:lnTo>
                    <a:pt x="234" y="2500"/>
                  </a:lnTo>
                  <a:cubicBezTo>
                    <a:pt x="234" y="2519"/>
                    <a:pt x="219" y="2533"/>
                    <a:pt x="200" y="2533"/>
                  </a:cubicBezTo>
                  <a:cubicBezTo>
                    <a:pt x="182" y="2533"/>
                    <a:pt x="167" y="2519"/>
                    <a:pt x="167" y="25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2433"/>
                  </a:moveTo>
                  <a:lnTo>
                    <a:pt x="200" y="2833"/>
                  </a:lnTo>
                  <a:lnTo>
                    <a:pt x="0" y="2433"/>
                  </a:lnTo>
                  <a:lnTo>
                    <a:pt x="400" y="24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0160" y="4419720"/>
              <a:ext cx="503280" cy="61920"/>
            </a:xfrm>
            <a:custGeom>
              <a:avLst/>
              <a:gdLst/>
              <a:ahLst/>
              <a:rect l="l" t="t" r="r" b="b"/>
              <a:pathLst>
                <a:path w="317" h="39">
                  <a:moveTo>
                    <a:pt x="317" y="24"/>
                  </a:moveTo>
                  <a:lnTo>
                    <a:pt x="251" y="24"/>
                  </a:lnTo>
                  <a:lnTo>
                    <a:pt x="251" y="16"/>
                  </a:lnTo>
                  <a:lnTo>
                    <a:pt x="317" y="16"/>
                  </a:lnTo>
                  <a:lnTo>
                    <a:pt x="317" y="24"/>
                  </a:lnTo>
                  <a:close/>
                  <a:moveTo>
                    <a:pt x="227" y="24"/>
                  </a:moveTo>
                  <a:lnTo>
                    <a:pt x="161" y="24"/>
                  </a:lnTo>
                  <a:lnTo>
                    <a:pt x="161" y="16"/>
                  </a:lnTo>
                  <a:lnTo>
                    <a:pt x="227" y="16"/>
                  </a:lnTo>
                  <a:lnTo>
                    <a:pt x="227" y="24"/>
                  </a:lnTo>
                  <a:close/>
                  <a:moveTo>
                    <a:pt x="136" y="24"/>
                  </a:moveTo>
                  <a:lnTo>
                    <a:pt x="70" y="24"/>
                  </a:lnTo>
                  <a:lnTo>
                    <a:pt x="70" y="16"/>
                  </a:lnTo>
                  <a:lnTo>
                    <a:pt x="136" y="16"/>
                  </a:lnTo>
                  <a:lnTo>
                    <a:pt x="136" y="24"/>
                  </a:lnTo>
                  <a:close/>
                  <a:moveTo>
                    <a:pt x="45" y="24"/>
                  </a:moveTo>
                  <a:lnTo>
                    <a:pt x="33" y="24"/>
                  </a:lnTo>
                  <a:lnTo>
                    <a:pt x="33" y="16"/>
                  </a:lnTo>
                  <a:lnTo>
                    <a:pt x="45" y="16"/>
                  </a:lnTo>
                  <a:lnTo>
                    <a:pt x="45" y="24"/>
                  </a:lnTo>
                  <a:close/>
                  <a:moveTo>
                    <a:pt x="40" y="39"/>
                  </a:moveTo>
                  <a:lnTo>
                    <a:pt x="0" y="20"/>
                  </a:lnTo>
                  <a:lnTo>
                    <a:pt x="40" y="0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0160" y="3505320"/>
              <a:ext cx="61920" cy="569880"/>
            </a:xfrm>
            <a:custGeom>
              <a:avLst/>
              <a:gdLst/>
              <a:ahLst/>
              <a:rect l="l" t="t" r="r" b="b"/>
              <a:pathLst>
                <a:path w="400" h="3633">
                  <a:moveTo>
                    <a:pt x="234" y="33"/>
                  </a:moveTo>
                  <a:lnTo>
                    <a:pt x="234" y="3300"/>
                  </a:lnTo>
                  <a:cubicBezTo>
                    <a:pt x="234" y="3319"/>
                    <a:pt x="219" y="3333"/>
                    <a:pt x="200" y="3333"/>
                  </a:cubicBezTo>
                  <a:cubicBezTo>
                    <a:pt x="182" y="3333"/>
                    <a:pt x="167" y="3319"/>
                    <a:pt x="167" y="33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4" y="15"/>
                    <a:pt x="234" y="33"/>
                  </a:cubicBezTo>
                  <a:close/>
                  <a:moveTo>
                    <a:pt x="400" y="3233"/>
                  </a:moveTo>
                  <a:lnTo>
                    <a:pt x="200" y="3633"/>
                  </a:lnTo>
                  <a:lnTo>
                    <a:pt x="0" y="3233"/>
                  </a:lnTo>
                  <a:lnTo>
                    <a:pt x="400" y="3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120" y="1690560"/>
              <a:ext cx="250560" cy="1254240"/>
            </a:xfrm>
            <a:custGeom>
              <a:avLst/>
              <a:gdLst/>
              <a:ahLst/>
              <a:rect l="l" t="t" r="r" b="b"/>
              <a:pathLst>
                <a:path w="158" h="790">
                  <a:moveTo>
                    <a:pt x="0" y="592"/>
                  </a:moveTo>
                  <a:lnTo>
                    <a:pt x="39" y="592"/>
                  </a:lnTo>
                  <a:lnTo>
                    <a:pt x="39" y="0"/>
                  </a:lnTo>
                  <a:lnTo>
                    <a:pt x="118" y="0"/>
                  </a:lnTo>
                  <a:lnTo>
                    <a:pt x="118" y="592"/>
                  </a:lnTo>
                  <a:lnTo>
                    <a:pt x="158" y="592"/>
                  </a:lnTo>
                  <a:lnTo>
                    <a:pt x="79" y="790"/>
                  </a:lnTo>
                  <a:lnTo>
                    <a:pt x="0" y="59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3200" y="5357880"/>
              <a:ext cx="1334880" cy="633240"/>
            </a:xfrm>
            <a:custGeom>
              <a:avLst/>
              <a:gdLst/>
              <a:ahLst/>
              <a:rect l="l" t="t" r="r" b="b"/>
              <a:pathLst>
                <a:path w="841" h="399">
                  <a:moveTo>
                    <a:pt x="836" y="10"/>
                  </a:moveTo>
                  <a:lnTo>
                    <a:pt x="757" y="10"/>
                  </a:lnTo>
                  <a:lnTo>
                    <a:pt x="757" y="0"/>
                  </a:lnTo>
                  <a:lnTo>
                    <a:pt x="836" y="0"/>
                  </a:lnTo>
                  <a:lnTo>
                    <a:pt x="836" y="10"/>
                  </a:lnTo>
                  <a:close/>
                  <a:moveTo>
                    <a:pt x="728" y="10"/>
                  </a:moveTo>
                  <a:lnTo>
                    <a:pt x="648" y="10"/>
                  </a:lnTo>
                  <a:lnTo>
                    <a:pt x="648" y="0"/>
                  </a:lnTo>
                  <a:lnTo>
                    <a:pt x="728" y="0"/>
                  </a:lnTo>
                  <a:lnTo>
                    <a:pt x="728" y="10"/>
                  </a:lnTo>
                  <a:close/>
                  <a:moveTo>
                    <a:pt x="619" y="10"/>
                  </a:moveTo>
                  <a:lnTo>
                    <a:pt x="539" y="1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19" y="10"/>
                  </a:lnTo>
                  <a:close/>
                  <a:moveTo>
                    <a:pt x="510" y="10"/>
                  </a:moveTo>
                  <a:lnTo>
                    <a:pt x="431" y="10"/>
                  </a:lnTo>
                  <a:lnTo>
                    <a:pt x="431" y="0"/>
                  </a:lnTo>
                  <a:lnTo>
                    <a:pt x="510" y="0"/>
                  </a:lnTo>
                  <a:lnTo>
                    <a:pt x="510" y="10"/>
                  </a:lnTo>
                  <a:close/>
                  <a:moveTo>
                    <a:pt x="401" y="10"/>
                  </a:moveTo>
                  <a:lnTo>
                    <a:pt x="322" y="10"/>
                  </a:lnTo>
                  <a:lnTo>
                    <a:pt x="322" y="0"/>
                  </a:lnTo>
                  <a:lnTo>
                    <a:pt x="401" y="0"/>
                  </a:lnTo>
                  <a:lnTo>
                    <a:pt x="401" y="10"/>
                  </a:lnTo>
                  <a:close/>
                  <a:moveTo>
                    <a:pt x="292" y="10"/>
                  </a:moveTo>
                  <a:lnTo>
                    <a:pt x="213" y="10"/>
                  </a:lnTo>
                  <a:lnTo>
                    <a:pt x="213" y="0"/>
                  </a:lnTo>
                  <a:lnTo>
                    <a:pt x="292" y="0"/>
                  </a:lnTo>
                  <a:lnTo>
                    <a:pt x="292" y="10"/>
                  </a:lnTo>
                  <a:close/>
                  <a:moveTo>
                    <a:pt x="183" y="10"/>
                  </a:moveTo>
                  <a:lnTo>
                    <a:pt x="104" y="10"/>
                  </a:lnTo>
                  <a:lnTo>
                    <a:pt x="104" y="0"/>
                  </a:lnTo>
                  <a:lnTo>
                    <a:pt x="183" y="0"/>
                  </a:lnTo>
                  <a:lnTo>
                    <a:pt x="183" y="10"/>
                  </a:lnTo>
                  <a:close/>
                  <a:moveTo>
                    <a:pt x="74" y="1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0"/>
                  </a:lnTo>
                  <a:close/>
                  <a:moveTo>
                    <a:pt x="10" y="45"/>
                  </a:moveTo>
                  <a:lnTo>
                    <a:pt x="10" y="124"/>
                  </a:lnTo>
                  <a:lnTo>
                    <a:pt x="0" y="124"/>
                  </a:lnTo>
                  <a:lnTo>
                    <a:pt x="0" y="45"/>
                  </a:lnTo>
                  <a:lnTo>
                    <a:pt x="10" y="45"/>
                  </a:lnTo>
                  <a:close/>
                  <a:moveTo>
                    <a:pt x="10" y="153"/>
                  </a:moveTo>
                  <a:lnTo>
                    <a:pt x="10" y="232"/>
                  </a:lnTo>
                  <a:lnTo>
                    <a:pt x="0" y="232"/>
                  </a:lnTo>
                  <a:lnTo>
                    <a:pt x="0" y="153"/>
                  </a:lnTo>
                  <a:lnTo>
                    <a:pt x="10" y="153"/>
                  </a:lnTo>
                  <a:close/>
                  <a:moveTo>
                    <a:pt x="10" y="262"/>
                  </a:moveTo>
                  <a:lnTo>
                    <a:pt x="10" y="341"/>
                  </a:lnTo>
                  <a:lnTo>
                    <a:pt x="0" y="341"/>
                  </a:lnTo>
                  <a:lnTo>
                    <a:pt x="0" y="262"/>
                  </a:lnTo>
                  <a:lnTo>
                    <a:pt x="10" y="262"/>
                  </a:lnTo>
                  <a:close/>
                  <a:moveTo>
                    <a:pt x="10" y="371"/>
                  </a:moveTo>
                  <a:lnTo>
                    <a:pt x="10" y="394"/>
                  </a:lnTo>
                  <a:lnTo>
                    <a:pt x="5" y="389"/>
                  </a:lnTo>
                  <a:lnTo>
                    <a:pt x="61" y="389"/>
                  </a:lnTo>
                  <a:lnTo>
                    <a:pt x="61" y="399"/>
                  </a:lnTo>
                  <a:lnTo>
                    <a:pt x="0" y="399"/>
                  </a:lnTo>
                  <a:lnTo>
                    <a:pt x="0" y="371"/>
                  </a:lnTo>
                  <a:lnTo>
                    <a:pt x="10" y="371"/>
                  </a:lnTo>
                  <a:close/>
                  <a:moveTo>
                    <a:pt x="91" y="389"/>
                  </a:moveTo>
                  <a:lnTo>
                    <a:pt x="170" y="389"/>
                  </a:lnTo>
                  <a:lnTo>
                    <a:pt x="170" y="399"/>
                  </a:lnTo>
                  <a:lnTo>
                    <a:pt x="91" y="399"/>
                  </a:lnTo>
                  <a:lnTo>
                    <a:pt x="91" y="389"/>
                  </a:lnTo>
                  <a:close/>
                  <a:moveTo>
                    <a:pt x="200" y="389"/>
                  </a:moveTo>
                  <a:lnTo>
                    <a:pt x="279" y="389"/>
                  </a:lnTo>
                  <a:lnTo>
                    <a:pt x="279" y="399"/>
                  </a:lnTo>
                  <a:lnTo>
                    <a:pt x="200" y="399"/>
                  </a:lnTo>
                  <a:lnTo>
                    <a:pt x="200" y="389"/>
                  </a:lnTo>
                  <a:close/>
                  <a:moveTo>
                    <a:pt x="309" y="389"/>
                  </a:moveTo>
                  <a:lnTo>
                    <a:pt x="388" y="389"/>
                  </a:lnTo>
                  <a:lnTo>
                    <a:pt x="388" y="399"/>
                  </a:lnTo>
                  <a:lnTo>
                    <a:pt x="309" y="399"/>
                  </a:lnTo>
                  <a:lnTo>
                    <a:pt x="309" y="389"/>
                  </a:lnTo>
                  <a:close/>
                  <a:moveTo>
                    <a:pt x="417" y="389"/>
                  </a:moveTo>
                  <a:lnTo>
                    <a:pt x="497" y="389"/>
                  </a:lnTo>
                  <a:lnTo>
                    <a:pt x="497" y="399"/>
                  </a:lnTo>
                  <a:lnTo>
                    <a:pt x="417" y="399"/>
                  </a:lnTo>
                  <a:lnTo>
                    <a:pt x="417" y="389"/>
                  </a:lnTo>
                  <a:close/>
                  <a:moveTo>
                    <a:pt x="526" y="389"/>
                  </a:moveTo>
                  <a:lnTo>
                    <a:pt x="606" y="389"/>
                  </a:lnTo>
                  <a:lnTo>
                    <a:pt x="606" y="399"/>
                  </a:lnTo>
                  <a:lnTo>
                    <a:pt x="526" y="399"/>
                  </a:lnTo>
                  <a:lnTo>
                    <a:pt x="526" y="389"/>
                  </a:lnTo>
                  <a:close/>
                  <a:moveTo>
                    <a:pt x="635" y="389"/>
                  </a:moveTo>
                  <a:lnTo>
                    <a:pt x="714" y="389"/>
                  </a:lnTo>
                  <a:lnTo>
                    <a:pt x="714" y="399"/>
                  </a:lnTo>
                  <a:lnTo>
                    <a:pt x="635" y="399"/>
                  </a:lnTo>
                  <a:lnTo>
                    <a:pt x="635" y="389"/>
                  </a:lnTo>
                  <a:close/>
                  <a:moveTo>
                    <a:pt x="744" y="389"/>
                  </a:moveTo>
                  <a:lnTo>
                    <a:pt x="823" y="389"/>
                  </a:lnTo>
                  <a:lnTo>
                    <a:pt x="823" y="399"/>
                  </a:lnTo>
                  <a:lnTo>
                    <a:pt x="744" y="399"/>
                  </a:lnTo>
                  <a:lnTo>
                    <a:pt x="744" y="389"/>
                  </a:lnTo>
                  <a:close/>
                  <a:moveTo>
                    <a:pt x="831" y="377"/>
                  </a:moveTo>
                  <a:lnTo>
                    <a:pt x="831" y="298"/>
                  </a:lnTo>
                  <a:lnTo>
                    <a:pt x="841" y="298"/>
                  </a:lnTo>
                  <a:lnTo>
                    <a:pt x="841" y="377"/>
                  </a:lnTo>
                  <a:lnTo>
                    <a:pt x="831" y="377"/>
                  </a:lnTo>
                  <a:close/>
                  <a:moveTo>
                    <a:pt x="831" y="269"/>
                  </a:moveTo>
                  <a:lnTo>
                    <a:pt x="831" y="189"/>
                  </a:lnTo>
                  <a:lnTo>
                    <a:pt x="841" y="189"/>
                  </a:lnTo>
                  <a:lnTo>
                    <a:pt x="841" y="269"/>
                  </a:lnTo>
                  <a:lnTo>
                    <a:pt x="831" y="269"/>
                  </a:lnTo>
                  <a:close/>
                  <a:moveTo>
                    <a:pt x="831" y="160"/>
                  </a:moveTo>
                  <a:lnTo>
                    <a:pt x="831" y="81"/>
                  </a:lnTo>
                  <a:lnTo>
                    <a:pt x="841" y="81"/>
                  </a:lnTo>
                  <a:lnTo>
                    <a:pt x="841" y="160"/>
                  </a:lnTo>
                  <a:lnTo>
                    <a:pt x="831" y="160"/>
                  </a:lnTo>
                  <a:close/>
                  <a:moveTo>
                    <a:pt x="831" y="51"/>
                  </a:moveTo>
                  <a:lnTo>
                    <a:pt x="831" y="5"/>
                  </a:lnTo>
                  <a:lnTo>
                    <a:pt x="841" y="5"/>
                  </a:lnTo>
                  <a:lnTo>
                    <a:pt x="841" y="51"/>
                  </a:lnTo>
                  <a:lnTo>
                    <a:pt x="831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200" y="54230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600" y="5597640"/>
              <a:ext cx="105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ion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840" y="57722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56680" y="73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690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000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58080" y="7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77796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13000" y="626256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* Thanks to Rachel Rich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Clinical Trial Eligibility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5400" y="895320"/>
            <a:ext cx="8839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Use Case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tep-Through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440" y="1096560"/>
            <a:ext cx="89791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Textual) specification of the eligibility criteria for a given clinical t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tology-based translation of the eligibility criteria into SPARQL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lation of the SPARQL queries into database-specific quer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ecution of the queries at the databases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ults contain all eligible pat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turn of a list of eligible patients to clinical trial administr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Inclusion Criteri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3840" y="895320"/>
            <a:ext cx="8880480" cy="53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47840" y="249552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56916"/>
              <a:gd name="adj5" fmla="val -89361"/>
              <a:gd name="adj6" fmla="val -1108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on in SDTM based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23120" y="4903920"/>
            <a:ext cx="1400040" cy="44748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194"/>
              <a:gd name="adj5" fmla="val -206384"/>
              <a:gd name="adj6" fmla="val -1278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TM based clinical trial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Drug Ontology Inferen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5120" y="928800"/>
            <a:ext cx="8825040" cy="532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52600" y="4762440"/>
            <a:ext cx="1400400" cy="447840"/>
          </a:xfrm>
          <a:prstGeom prst="borderCallout2">
            <a:avLst>
              <a:gd name="adj1" fmla="val 18750"/>
              <a:gd name="adj2" fmla="val -8333"/>
              <a:gd name="adj3" fmla="val 25532"/>
              <a:gd name="adj4" fmla="val -65875"/>
              <a:gd name="adj5" fmla="val -80851"/>
              <a:gd name="adj6" fmla="val -1292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lusion in 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89920" y="4189320"/>
            <a:ext cx="1400040" cy="314280"/>
          </a:xfrm>
          <a:prstGeom prst="borderCallout2">
            <a:avLst>
              <a:gd name="adj1" fmla="val 18750"/>
              <a:gd name="adj2" fmla="val -8333"/>
              <a:gd name="adj3" fmla="val 36365"/>
              <a:gd name="adj4" fmla="val -58958"/>
              <a:gd name="adj5" fmla="val -296967"/>
              <a:gd name="adj6" fmla="val -114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43280" y="1352520"/>
            <a:ext cx="6933600" cy="3981600"/>
            <a:chOff x="1943280" y="1352520"/>
            <a:chExt cx="6933600" cy="39816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4143240" y="1352520"/>
              <a:ext cx="4733640" cy="39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1943280" y="3085560"/>
              <a:ext cx="1123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047760" y="2752200"/>
              <a:ext cx="10854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9441800">
            <a:off x="5185080" y="28760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bclasses of “anticoagula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OI Demo – Selecting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3200" y="919080"/>
            <a:ext cx="8829720" cy="5310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76880" y="3438360"/>
            <a:ext cx="3647880" cy="1838520"/>
          </a:xfrm>
          <a:prstGeom prst="borderCallout2">
            <a:avLst>
              <a:gd name="adj1" fmla="val 18750"/>
              <a:gd name="adj2" fmla="val -8333"/>
              <a:gd name="adj3" fmla="val 6217"/>
              <a:gd name="adj4" fmla="val -11620"/>
              <a:gd name="adj5" fmla="val -10361"/>
              <a:gd name="adj6" fmla="val -21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heck all drugs that "may_treat obes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A rdfs:subClassOf ?B; rdfs:label ?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B a owl:Restric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onProperty :may_trea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:someValuesFrom :C002875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?D a :WeightLoseDrug}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Medication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:M0271 a sdtm:Medication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pl:classCode </a:t>
            </a:r>
            <a:r>
              <a:rPr b="1" lang="de-DE" sz="2500" spc="-1" strike="noStrike">
                <a:solidFill>
                  <a:srgbClr val="cc0000"/>
                </a:solidFill>
                <a:latin typeface="Consolas"/>
              </a:rPr>
              <a:t>6809</a:t>
            </a: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; #metformi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ubject :P0006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dosePerAdministration [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Value 500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sdtm:hasUnit "mg„ ]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start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70101T00:00:00"^^xsd:dateTime ;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sdtm:endDateTime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Consolas"/>
              </a:rPr>
              <a:t>   "2008-0101T00:00:00"^^xsd:dateTime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89400" y="1181160"/>
            <a:ext cx="93636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99"/>
                </a:solidFill>
                <a:latin typeface="Times New Roman"/>
              </a:rPr>
              <a:t>Criteria in SPARQL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1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spl:activeIngredient ?ingredient1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1 spl:classCode 6809 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OPTIONAL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medication2 sdtm:subject ?patient ;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  spl:activeIngredient ?ingredient2 .</a:t>
            </a:r>
            <a:br>
              <a:rPr sz="2300"/>
            </a:b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?ingredient2 spl:classCode 11289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onsolas"/>
              </a:rPr>
              <a:t>} FILTER (!BOUND(?medication2)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2895480"/>
            <a:ext cx="1127160" cy="409680"/>
          </a:xfrm>
          <a:prstGeom prst="ellipse">
            <a:avLst/>
          </a:prstGeom>
          <a:solidFill>
            <a:srgbClr val="993366">
              <a:alpha val="50000"/>
            </a:srgbClr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1676520"/>
            <a:ext cx="936720" cy="3776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440" y="1371600"/>
            <a:ext cx="3067200" cy="574560"/>
            <a:chOff x="5257440" y="1371600"/>
            <a:chExt cx="3067200" cy="574560"/>
          </a:xfrm>
        </p:grpSpPr>
        <p:sp>
          <p:nvSpPr>
            <p:cNvPr id="327" name=""/>
            <p:cNvSpPr/>
            <p:nvPr/>
          </p:nvSpPr>
          <p:spPr>
            <a:xfrm>
              <a:off x="6164280" y="1371600"/>
              <a:ext cx="2160360" cy="57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for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257440" y="1646280"/>
              <a:ext cx="8571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00040"/>
            <a:ext cx="2808360" cy="1012680"/>
            <a:chOff x="5638680" y="3200040"/>
            <a:chExt cx="2808360" cy="1012680"/>
          </a:xfrm>
        </p:grpSpPr>
        <p:sp>
          <p:nvSpPr>
            <p:cNvPr id="330" name=""/>
            <p:cNvSpPr/>
            <p:nvPr/>
          </p:nvSpPr>
          <p:spPr>
            <a:xfrm>
              <a:off x="5638680" y="3709800"/>
              <a:ext cx="2808360" cy="502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nticoagul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905440" y="3200040"/>
              <a:ext cx="41904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69960" y="3103560"/>
            <a:ext cx="4727520" cy="647640"/>
          </a:xfrm>
          <a:prstGeom prst="ellipse">
            <a:avLst/>
          </a:prstGeom>
          <a:solidFill>
            <a:srgbClr val="ccecff">
              <a:alpha val="50000"/>
            </a:srgbClr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770200" y="3769920"/>
            <a:ext cx="2808360" cy="1337040"/>
            <a:chOff x="2770200" y="3769920"/>
            <a:chExt cx="2808360" cy="1337040"/>
          </a:xfrm>
        </p:grpSpPr>
        <p:sp>
          <p:nvSpPr>
            <p:cNvPr id="334" name=""/>
            <p:cNvSpPr/>
            <p:nvPr/>
          </p:nvSpPr>
          <p:spPr>
            <a:xfrm>
              <a:off x="2770200" y="4280040"/>
              <a:ext cx="2808360" cy="826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clusion Criter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036600" y="3769920"/>
              <a:ext cx="9428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SDTM to HL7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423720" y="336708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1824120"/>
            <a:ext cx="49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a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 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Administration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 =&gt;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?x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Administratio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 ?y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6840" y="159084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Me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Consolas"/>
              </a:rPr>
              <a:t>sdtm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P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2960" y="12398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Clinical Tri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84880" y="44766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99"/>
                </a:solidFill>
                <a:latin typeface="Times New Roman"/>
              </a:rPr>
              <a:t>HL7 to EMR Database Transforma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8360" y="1641600"/>
          <a:ext cx="8200800" cy="3495600"/>
        </p:xfrm>
        <a:graphic>
          <a:graphicData uri="http://schemas.openxmlformats.org/drawingml/2006/table">
            <a:tbl>
              <a:tblPr/>
              <a:tblGrid>
                <a:gridCol w="3305160"/>
                <a:gridCol w="4895640"/>
              </a:tblGrid>
              <a:tr h="14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85920" y="1757520"/>
            <a:ext cx="331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Substance-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a8263"/>
                </a:solidFill>
                <a:latin typeface="Consolas"/>
              </a:rPr>
              <a:t>hl7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:dose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41920" y="1652760"/>
            <a:ext cx="49687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hl7:substanceAdministr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  hl7:SubstanceAdministra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consumable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hl7:displa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?take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activeIngredient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spl:classCode ?ing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] ;} =&gt;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Item  Item_Medication:PatientID    ?pers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PerformedDTTM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?indicDate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Item_Medication:EntryName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82320" y="117324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MS PGothic"/>
              </a:rPr>
              <a:t>SPARQL in Clinical Practic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64680" y="528624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MS PGothic"/>
              </a:rPr>
              <a:t>SQL to EM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104640" y="2914560"/>
            <a:ext cx="1295280" cy="5713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880" y="3470400"/>
            <a:ext cx="331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Item_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EntryName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takes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78f1f"/>
                </a:solidFill>
                <a:latin typeface="Consolas"/>
              </a:rPr>
              <a:t>Medication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:ItemID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nsolas"/>
              </a:rPr>
              <a:t>     ?indic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Task Force on Clinical Observations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and Life Sciences (HCLS): A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S Ecosystem: Current and Go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nd Func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emo Step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of Semantic 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ushing Query to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SDTM ontology to SPARQL in HL7 ont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ARQL in HL7 ontology to SQL in EMR datab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640" y="2685960"/>
            <a:ext cx="1000080" cy="2305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0440" y="2162160"/>
            <a:ext cx="0" cy="3362400"/>
          </a:xfrm>
          <a:prstGeom prst="line">
            <a:avLst/>
          </a:prstGeom>
          <a:ln w="76320">
            <a:solidFill>
              <a:srgbClr val="636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0120" y="2608200"/>
            <a:ext cx="1000440" cy="230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7 DCM/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9400" y="2017800"/>
            <a:ext cx="0" cy="3362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457360"/>
            <a:ext cx="857520" cy="2095560"/>
          </a:xfrm>
          <a:prstGeom prst="flowChartMagneticDisk">
            <a:avLst/>
          </a:prstGeom>
          <a:gradFill rotWithShape="0">
            <a:gsLst>
              <a:gs pos="0">
                <a:srgbClr val="d78f1f"/>
              </a:gs>
              <a:gs pos="50000">
                <a:srgbClr val="ffffff"/>
              </a:gs>
              <a:gs pos="100000">
                <a:srgbClr val="d78f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52560" y="5067360"/>
            <a:ext cx="1857240" cy="62856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70640" y="5018040"/>
            <a:ext cx="2085840" cy="714600"/>
          </a:xfrm>
          <a:custGeom>
            <a:avLst/>
            <a:gdLst>
              <a:gd name="textAreaLeft" fmla="*/ 260640 w 2085840"/>
              <a:gd name="textAreaRight" fmla="*/ 1825200 w 208584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78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6960" y="4989600"/>
            <a:ext cx="1857240" cy="771480"/>
          </a:xfrm>
          <a:custGeom>
            <a:avLst/>
            <a:gdLst>
              <a:gd name="textAreaLeft" fmla="*/ 232200 w 1857240"/>
              <a:gd name="textAreaRight" fmla="*/ 1625400 w 185724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6800" y="1898640"/>
            <a:ext cx="4562640" cy="777960"/>
          </a:xfrm>
          <a:custGeom>
            <a:avLst/>
            <a:gdLst/>
            <a:ahLst/>
            <a:rect l="l" t="t" r="r" b="b"/>
            <a:pathLst>
              <a:path w="3096" h="394">
                <a:moveTo>
                  <a:pt x="3096" y="394"/>
                </a:moveTo>
                <a:cubicBezTo>
                  <a:pt x="2649" y="213"/>
                  <a:pt x="2202" y="32"/>
                  <a:pt x="1686" y="16"/>
                </a:cubicBezTo>
                <a:cubicBezTo>
                  <a:pt x="1170" y="0"/>
                  <a:pt x="585" y="149"/>
                  <a:pt x="0" y="298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55360" y="18414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68d"/>
                </a:solidFill>
                <a:latin typeface="Times New Roman"/>
              </a:rPr>
              <a:t>List of eligibl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SDTM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dtm: &lt;http://www.sdtm.org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pl: &lt;http://www.hl7.org/v3ballot/xml/infrastructure/vocabulary/vocabulary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patient ?dob ?sex ?takes ?indicDate?cont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a sdtm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middleName 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dateTimeOfBirth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ex 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?code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indic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sdtm:subject 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ndardizedMedicationName ?contra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l:activeIngredient [ spl:classCode 11289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effectiveTime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tm:startDateTimeOfMedication ?contra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!BOUND(?contra) &amp;&amp; ?code = 68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DTM-HL7 Mapping Ru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Tim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comitantMedic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jec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ndardizedMedicationName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sdt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DateTimeOfMedication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ta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}   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atient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[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   [  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gred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   ?start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PARQL in HL7 Via SWtranformer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FIX 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 &lt;http://www.hl7.org/v3ballot/xml/infrastructure/vocabulary/vocabulary#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patient ?dob ?sex ?takes ?indicD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middleNam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dob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dministrativeGenderCodePrint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sex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Person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patien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D918_gen0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onsumabl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b0035C798_gen1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ubstanceAdministration&gt;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D918_gen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effectiveTi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798_gen1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activeIngredient ?b0035C848_gen2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848_gen2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classCod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cod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?b0035C5E8_gen3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:star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?indicDate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cc0000"/>
                </a:solidFill>
                <a:latin typeface="Times New Roman"/>
              </a:rPr>
              <a:t>FIL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 ?code = 6809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Tab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xsd: &lt;http://www.w3.org/2001/XMLSchema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Person: &lt;http://hospital.example/DB/Pers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Sex_DE: &lt;http://hospital.example/DB/Sex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Item_Medication: &lt;http://hospital.example/DB/Item_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: &lt;http://hospital.example/DB/Medication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Medication_DE: &lt;http://hospital.example/DB/Medication_DE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FIX NDCcodes: &lt;http://hospital.example/DB/NDCcodes#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HL – Database Mapping Rules: Schem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CONSTRUC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it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livingSubjectBirthTi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dministrativeGenderCodePrintName ?sex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[    a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ubstanceAdminist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onsumabl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ispla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?takes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activeIngredient [  </a:t>
            </a:r>
            <a:r>
              <a:rPr b="0" lang="en-US" sz="1500" spc="-1" strike="noStrike">
                <a:solidFill>
                  <a:srgbClr val="63668d"/>
                </a:solidFill>
                <a:latin typeface="Times New Roman"/>
              </a:rPr>
              <a:t>sp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classCode ?ingr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ffectiveTime [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hl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tart ?indicDate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] 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WHE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iddle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middleNam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teOfBir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dob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Sex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sexEntry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Times New Roman"/>
              </a:rPr>
              <a:t>OP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{ ?indicItem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atient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pers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PerformedDTTM ?indicDate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Item_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EntryNam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takes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Med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Item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Item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DaysToTak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uratio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MedDict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DE    </a:t>
            </a:r>
            <a:r>
              <a:rPr b="0" lang="en-US" sz="1500" spc="-1" strike="noStrike">
                <a:solidFill>
                  <a:srgbClr val="ff9900"/>
                </a:solidFill>
                <a:latin typeface="Times New Roman"/>
              </a:rPr>
              <a:t>Medication_D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:ND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?indicNDC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97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Class Information in CT #8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no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tform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 secretagogu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lpha-glucosidase inhibitor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a low dose combination of a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therap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apy with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si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vandia)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oglit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ctos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in-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yetta), alone or in combin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eightloss drug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e.g.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enic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orlistat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ridi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sibutramine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utrim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henylpropanol-amine), o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medication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nsteroidal anti-inflammator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rug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arfar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Coumadi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opidogre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lavix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ticoagulan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47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beneci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Benemid, Probalan)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lfinpyrazo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nturane) or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uricosur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gen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rescription Information in Patient Data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39","131933","98630     ","GlipiZIDE-Metformin HCl 2.5-25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2.5-250        ","TABS","","MG        ","  ","15","GlipiZIDE-Metformin HCl       ","","GlipiZIDE-Metformin HCl 2.5-25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152","131946","98629     ","GlipiZIDE-Metformin HCl 2.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188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9,"2.5-500        ","TABS","","MG        ","  ","15","GlipiZIDE-Metformin HCl       ","","GlipiZIDE-Metformin HCl 2.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407","132201","98628     ","GlipiZIDE-Metformin HCl 5-500 MG Tablet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54670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28,"5-500          ","TABS","","MG        ","  ","15","GlipiZIDE-Metformin HCl       ","","GlipiZIDE-Metformin HCl 5-500 MG Tablet“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"132642","132436","C98630    ","GlipiZIDE-Metformin HCl TABS","</a:t>
            </a:r>
            <a:r>
              <a:rPr b="1" lang="en-US" sz="1500" spc="-1" strike="noStrike">
                <a:solidFill>
                  <a:srgbClr val="cc0000"/>
                </a:solidFill>
                <a:latin typeface="Times New Roman"/>
              </a:rPr>
              <a:t>548680795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",98630,"","TABS","","          ","  ","15","GlipiZIDE-Metformin HCl       ","","GlipiZIDE-Metformin HCl TAB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52880" y="2438280"/>
            <a:ext cx="2597040" cy="3992400"/>
            <a:chOff x="4952880" y="2438280"/>
            <a:chExt cx="2597040" cy="3992400"/>
          </a:xfrm>
        </p:grpSpPr>
        <p:sp>
          <p:nvSpPr>
            <p:cNvPr id="379" name=""/>
            <p:cNvSpPr/>
            <p:nvPr/>
          </p:nvSpPr>
          <p:spPr>
            <a:xfrm>
              <a:off x="4952880" y="6062400"/>
              <a:ext cx="138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3200" y="4006800"/>
              <a:ext cx="39996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36960" y="2438280"/>
              <a:ext cx="1812960" cy="35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rug Ontology By Stanf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Object 2" descr=""/>
          <p:cNvPicPr/>
          <p:nvPr/>
        </p:nvPicPr>
        <p:blipFill>
          <a:blip r:embed="rId1"/>
          <a:srcRect l="0" t="0" r="-824" b="-172"/>
          <a:stretch/>
        </p:blipFill>
        <p:spPr>
          <a:xfrm>
            <a:off x="826920" y="1125360"/>
            <a:ext cx="6985080" cy="4321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755080" y="588492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rom drug ontology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3203640" y="5373720"/>
            <a:ext cx="6046920" cy="1484280"/>
            <a:chOff x="3203640" y="5373720"/>
            <a:chExt cx="6046920" cy="1484280"/>
          </a:xfrm>
        </p:grpSpPr>
        <p:sp>
          <p:nvSpPr>
            <p:cNvPr id="386" name=""/>
            <p:cNvSpPr/>
            <p:nvPr/>
          </p:nvSpPr>
          <p:spPr>
            <a:xfrm>
              <a:off x="3203640" y="5373720"/>
              <a:ext cx="5940360" cy="1484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0400" y="5373720"/>
              <a:ext cx="57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DC:54868079500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2.5-25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4600" y="5805360"/>
              <a:ext cx="55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51880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5-500 MG Tab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0000" y="6237360"/>
              <a:ext cx="455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NDC: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48680795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GlipiZIDE-Metformin HCl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0920" y="1557360"/>
            <a:ext cx="3159000" cy="4464000"/>
            <a:chOff x="250920" y="1557360"/>
            <a:chExt cx="3159000" cy="4464000"/>
          </a:xfrm>
        </p:grpSpPr>
        <p:sp>
          <p:nvSpPr>
            <p:cNvPr id="391" name=""/>
            <p:cNvSpPr/>
            <p:nvPr/>
          </p:nvSpPr>
          <p:spPr>
            <a:xfrm>
              <a:off x="250920" y="1557360"/>
              <a:ext cx="3097080" cy="4464000"/>
            </a:xfrm>
            <a:prstGeom prst="ellipse">
              <a:avLst/>
            </a:prstGeom>
            <a:solidFill>
              <a:srgbClr val="000099">
                <a:alpha val="16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2b2b2"/>
                  </a:solidFill>
                  <a:latin typeface="Arial"/>
                </a:rPr>
                <a:t>C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680" y="3268800"/>
              <a:ext cx="128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formi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400" y="366876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ulin secretago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8120" y="430992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pha-glucosidase inhibi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1240" y="474192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ticoagul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1240" y="517356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icosuri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0280" y="3949560"/>
              <a:ext cx="31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steroidal anti-inflamm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87180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8780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1125360"/>
            <a:ext cx="1942920" cy="64800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16720" y="3716280"/>
            <a:ext cx="2376360" cy="1513080"/>
            <a:chOff x="6516720" y="3716280"/>
            <a:chExt cx="2376360" cy="1513080"/>
          </a:xfrm>
        </p:grpSpPr>
        <p:sp>
          <p:nvSpPr>
            <p:cNvPr id="402" name=""/>
            <p:cNvSpPr/>
            <p:nvPr/>
          </p:nvSpPr>
          <p:spPr>
            <a:xfrm>
              <a:off x="6516720" y="3716280"/>
              <a:ext cx="2376360" cy="151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1640" y="4221000"/>
              <a:ext cx="187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drugBank: DB003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RxNORM: 68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076720" y="436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255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5084640"/>
            <a:ext cx="504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apping Between CT and Patient Recor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396240" y="947880"/>
            <a:ext cx="3682440" cy="3983040"/>
            <a:chOff x="3396240" y="947880"/>
            <a:chExt cx="3682440" cy="398304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3511440" y="4035600"/>
              <a:ext cx="3168720" cy="89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3396240" y="947880"/>
              <a:ext cx="3682440" cy="3816360"/>
              <a:chOff x="3396240" y="947880"/>
              <a:chExt cx="3682440" cy="3816360"/>
            </a:xfrm>
          </p:grpSpPr>
          <p:sp>
            <p:nvSpPr>
              <p:cNvPr id="410" name=""/>
              <p:cNvSpPr/>
              <p:nvPr/>
            </p:nvSpPr>
            <p:spPr>
              <a:xfrm>
                <a:off x="3530520" y="947880"/>
                <a:ext cx="2449440" cy="3816360"/>
              </a:xfrm>
              <a:prstGeom prst="ellipse">
                <a:avLst/>
              </a:prstGeom>
              <a:solidFill>
                <a:srgbClr val="777777">
                  <a:alpha val="16000"/>
                </a:srgbClr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2b2b2"/>
                    </a:solidFill>
                    <a:latin typeface="Arial"/>
                  </a:rPr>
                  <a:t>Drug Ont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2680" y="2808360"/>
                <a:ext cx="3456000" cy="8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536280" y="2287440"/>
                <a:ext cx="21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chanismOf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96240" y="3684600"/>
                <a:ext cx="187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neralDrugTyp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6750000" y="2795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1299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63920" y="4246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665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75160" y="3713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00503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925000">
            <a:off x="6372000" y="3428640"/>
            <a:ext cx="1512720" cy="720720"/>
          </a:xfrm>
          <a:custGeom>
            <a:avLst/>
            <a:gdLst>
              <a:gd name="textAreaLeft" fmla="*/ 264600 w 1512720"/>
              <a:gd name="textAreaRight" fmla="*/ 1096920 w 1512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W3C Task Force on Clinical Observations Interoperability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a collaboration between Providers, Pharma and other HCLS stakeholders for re-use of EMR data in Clinical Re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stablish the key stakeholders and respective value pro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reate consensus on a common use case, needs statements and functional requi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Develop Proofs of Concept by implementing key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1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Healthcar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Partners, Cleveland Clinic, Intermountain Healthcare, Mayo Clinic, VA/Regenstri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Pharmaceutical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Eli Lilly, Astra Zeneca, Novartis, Pfizer, Bristol Myers Squi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Times New Roman"/>
              </a:rPr>
              <a:t>W3C, CDISC, HL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dvantages of Semantic Web Technologie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lug and play use of multiple ontologies and information models based on industry standards (e.g., CDISC, HL7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access multiple points of view through declarative specification of mapping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CDISC/SDTM and HL7 based inform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s across terminologies such as NDC, RxNorm and Stanford’s Drug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bility to map across terminologies via compositional definition of concepts, e.g., Obesity dru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Late binding of coding systems and database sch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Transform SPARQL to SQL in real time, reflecting real time discovery and integration nee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xt Step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cit Feedback and Participation from the broader Biomedical Informatics commun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esw.w3.org/topic/HCLS/ClinicalObservationsInterope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hcls.deri.org/coi/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 proof of concepts for a wider variety of use cases in collaboration with various participants in the HCLS Eco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e Drug Event Reporting and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-vigi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What is Translational Medicine (TM)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666880"/>
            <a:ext cx="1676520" cy="16002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2578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43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3080" y="5334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62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760" y="472428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2860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34960" y="1788840"/>
            <a:ext cx="6274080" cy="4370040"/>
            <a:chOff x="1434960" y="1788840"/>
            <a:chExt cx="6274080" cy="4370040"/>
          </a:xfrm>
        </p:grpSpPr>
        <p:sp>
          <p:nvSpPr>
            <p:cNvPr id="57" name="_s757773"/>
            <p:cNvSpPr/>
            <p:nvPr/>
          </p:nvSpPr>
          <p:spPr>
            <a:xfrm>
              <a:off x="3724200" y="2382840"/>
              <a:ext cx="1697040" cy="1697040"/>
            </a:xfrm>
            <a:prstGeom prst="ellipse">
              <a:avLst/>
            </a:prstGeom>
            <a:solidFill>
              <a:srgbClr val="000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57774"/>
            <p:cNvSpPr/>
            <p:nvPr/>
          </p:nvSpPr>
          <p:spPr>
            <a:xfrm>
              <a:off x="3724200" y="17888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omed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57775"/>
            <p:cNvSpPr/>
            <p:nvPr/>
          </p:nvSpPr>
          <p:spPr>
            <a:xfrm>
              <a:off x="4282920" y="3350880"/>
              <a:ext cx="1697040" cy="1697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57776"/>
            <p:cNvSpPr/>
            <p:nvPr/>
          </p:nvSpPr>
          <p:spPr>
            <a:xfrm>
              <a:off x="601200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57777"/>
            <p:cNvSpPr/>
            <p:nvPr/>
          </p:nvSpPr>
          <p:spPr>
            <a:xfrm>
              <a:off x="3165480" y="3350880"/>
              <a:ext cx="1697040" cy="169704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57778"/>
            <p:cNvSpPr/>
            <p:nvPr/>
          </p:nvSpPr>
          <p:spPr>
            <a:xfrm>
              <a:off x="1434960" y="470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1080" y="5638680"/>
              <a:ext cx="12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2960" y="2514600"/>
            <a:ext cx="129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29714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3240" y="222084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s and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76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4382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63868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162920" y="2895480"/>
            <a:ext cx="1752480" cy="609840"/>
            <a:chOff x="7162920" y="2895480"/>
            <a:chExt cx="1752480" cy="609840"/>
          </a:xfrm>
        </p:grpSpPr>
        <p:sp>
          <p:nvSpPr>
            <p:cNvPr id="72" name=""/>
            <p:cNvSpPr/>
            <p:nvPr/>
          </p:nvSpPr>
          <p:spPr>
            <a:xfrm>
              <a:off x="7313400" y="2971800"/>
              <a:ext cx="141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 and Co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2920" y="2895480"/>
              <a:ext cx="1752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HCLS Ecosystem: Current St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4311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96080" y="5302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0720" y="324468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3352680" y="43866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in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rganizations (C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67080" y="3854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00600" y="2558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35120" y="240660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0680" y="2482920"/>
            <a:ext cx="1796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ional Instit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370188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997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560" y="4448160"/>
            <a:ext cx="1831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ademic 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s (AM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92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092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60" y="1263600"/>
            <a:ext cx="54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acterized by silos with uncoord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ly chains leading to inefficiencies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9440" y="3092400"/>
            <a:ext cx="1081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nte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3930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82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37240" y="490536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0640" y="492120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8520" y="393048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20960" y="598788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1840" y="1873080"/>
            <a:ext cx="9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00" y="58356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0" y="2178000"/>
            <a:ext cx="91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797120"/>
            <a:ext cx="236232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711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49400"/>
            <a:ext cx="23619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254320"/>
            <a:ext cx="27432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55306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iomedic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5280" y="63691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Trials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1640" y="64450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inic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ome interesting developments …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yors are performing analyses to en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s to better identify health issues and optimize 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s/members to make better medica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/utilization optimization and claim adjud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rs are performing clinical studies and revie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the quality and consistency of clinic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erform clinical research and evaluate clinica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624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armaceuticals are perform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econdary uses of healthcare data, e.g., use of EMRs for clinic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HCLS Ecosystem: Goal State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4760" y="3292560"/>
            <a:ext cx="158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tients,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673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359240"/>
            <a:ext cx="101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3240" y="435924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8840" y="5425920"/>
            <a:ext cx="813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y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3600" y="473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9720" y="1311120"/>
            <a:ext cx="619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9000" y="4343400"/>
            <a:ext cx="73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511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2530440"/>
            <a:ext cx="1581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31395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463760"/>
            <a:ext cx="1752840" cy="2819160"/>
          </a:xfrm>
          <a:custGeom>
            <a:avLst/>
            <a:gdLst/>
            <a:ahLst/>
            <a:rect l="l" t="t" r="r" b="b"/>
            <a:pathLst>
              <a:path w="1104" h="1776">
                <a:moveTo>
                  <a:pt x="0" y="1776"/>
                </a:moveTo>
                <a:cubicBezTo>
                  <a:pt x="348" y="1680"/>
                  <a:pt x="696" y="1584"/>
                  <a:pt x="864" y="1344"/>
                </a:cubicBezTo>
                <a:cubicBezTo>
                  <a:pt x="1032" y="1104"/>
                  <a:pt x="1104" y="560"/>
                  <a:pt x="1008" y="336"/>
                </a:cubicBezTo>
                <a:cubicBezTo>
                  <a:pt x="912" y="112"/>
                  <a:pt x="600" y="5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16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920" y="1311120"/>
            <a:ext cx="586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4637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962520" y="16160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616040"/>
            <a:ext cx="1676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0040" y="1235160"/>
            <a:ext cx="1183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Rese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5400" y="2606760"/>
            <a:ext cx="128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versi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M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28800" y="1844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440" y="14637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911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139920"/>
            <a:ext cx="137160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344484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169236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216240"/>
            <a:ext cx="1067040" cy="1219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00440" y="55627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4880" y="53942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FDA, C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200" y="5791320"/>
            <a:ext cx="649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linical Observations Interoperability will be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Critical Enabler to realize this V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Functional Requirement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65" r="26875" b="46875"/>
          <a:stretch/>
        </p:blipFill>
        <p:spPr>
          <a:xfrm>
            <a:off x="0" y="1066680"/>
            <a:ext cx="8915400" cy="381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1840" y="5105520"/>
            <a:ext cx="88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dentifies the Use Cases, Systems and Functional Requirement under consider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I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e Functional Requirements Specification developed  by EHRVA/HI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Need for a bi-directional EMR – CTMS Link: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Shareable Open Source Models of Clinical Data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" y="220968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7480" y="3048120"/>
            <a:ext cx="219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33840" y="380376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" y="4572000"/>
            <a:ext cx="224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care Provi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6480" y="1860480"/>
            <a:ext cx="12153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198612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282420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982280" y="3580200"/>
            <a:ext cx="6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560" y="4348080"/>
            <a:ext cx="167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Trial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6880" y="3060720"/>
            <a:ext cx="1676520" cy="824040"/>
            <a:chOff x="2666880" y="3060720"/>
            <a:chExt cx="1676520" cy="824040"/>
          </a:xfrm>
        </p:grpSpPr>
        <p:sp>
          <p:nvSpPr>
            <p:cNvPr id="152" name=""/>
            <p:cNvSpPr/>
            <p:nvPr/>
          </p:nvSpPr>
          <p:spPr>
            <a:xfrm>
              <a:off x="2666880" y="327672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4320" y="306072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3213000"/>
            <a:ext cx="1676520" cy="824040"/>
            <a:chOff x="5715000" y="3213000"/>
            <a:chExt cx="1676520" cy="824040"/>
          </a:xfrm>
        </p:grpSpPr>
        <p:sp>
          <p:nvSpPr>
            <p:cNvPr id="155" name=""/>
            <p:cNvSpPr/>
            <p:nvPr/>
          </p:nvSpPr>
          <p:spPr>
            <a:xfrm>
              <a:off x="5715000" y="3429000"/>
              <a:ext cx="1676520" cy="380880"/>
            </a:xfrm>
            <a:prstGeom prst="leftRightArrow">
              <a:avLst>
                <a:gd name="adj1" fmla="val 50000"/>
                <a:gd name="adj2" fmla="val 87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22440" y="3213000"/>
              <a:ext cx="125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082000</cp:lastModifiedBy>
  <dcterms:modified xsi:type="dcterms:W3CDTF">2009-02-24T13:51:24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